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689-568B-4654-857A-62089688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4F6-0451-42D9-942F-6F6CA0D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7483-6A19-4B0C-B511-D701DA2A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9AB5C-CADF-4194-B63F-ED35BC63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E93D9-8A3B-4E9E-A8CB-EB8713E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5949-4F0A-45D2-B947-B57004E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CD64E-4C2B-4963-90B0-2081E5E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58EB7-691E-49FB-97FD-7A581E1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7E7A-FA18-4645-A37A-06385C05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8ADF-42E2-48AB-A123-42BF8D83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93482-0465-41E6-8DAC-25127157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DEF48-12AE-4101-AFF6-0FA3508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D1A-8B47-4802-BCEF-06644FA2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DDE03-9839-454F-8887-65D9C6C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78DA1-58A8-42C2-9A60-750B61F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D5492-E3FD-4777-8806-22BF4130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09148-D7FE-484F-A794-8C03487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CCBE9-6DE2-4388-A972-3FB09B9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DFD08-0DFF-42A9-8C07-9117EE8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6372-C28B-43A7-9CC3-A30E1E97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8CE25-200D-423F-895C-D7BE5AC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12EA-9451-4C2A-8E35-C480C25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FFE05-5A8E-4B30-9660-E9B6817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C49-D275-4FBB-97ED-97A90C5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00FAC-9926-411A-B1AA-33732449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6A180-C914-4F8D-BBC9-1FC42E9D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90530-6844-4909-A7E1-74F57A99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42157-47AF-45FA-A9D5-700DA42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0149-0090-4F8D-B38F-5E7B5E7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01B66-BC2E-4F26-A1DA-C8C46DEE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20521-D955-4CCF-9E87-5989B58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32D4-4807-4F84-B085-97621E1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94517-6548-4EBE-9934-513118A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A3C6-D772-44C7-9DF3-E476347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092A-11CA-4019-A5C4-C4FCFE7F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254F-086E-4DDD-8F39-29322E0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7A929-2CF9-401A-AF75-4586968D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9053-F5E7-4848-80D7-7B9C74B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89358-E8E9-49C7-94B6-9C92EFD6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2F049-B3AA-4A1D-80F3-7D2EA5BD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6501A-92AD-4E05-BEC0-BC0AEC0A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0EC44-EDFB-44AF-9AA2-26A0815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820DB-9965-48A9-BC06-4C019AE2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4B14E-974A-4F34-A22C-1321CE7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EB051-960B-4BAB-BB34-ADE1AC9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850-FD9B-4E5B-A60D-8716E62B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1BF7A-5E2E-42E5-AB6F-3E9729F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DFCF-DD6B-4D92-B345-2C5330E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0558-B2C4-4CF0-AB87-5F8CC24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6A8C9-267A-46AD-BFDA-82D517A6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FDF3B-F0BF-48B2-9D2F-D32FF7F3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72680-7DF1-4A34-BDEE-204DFFF5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9274C-BBE2-4F88-8A94-A6DD6459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AB9E7-2901-413C-B6B3-D932E4C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65ACE-F8F1-4B05-A8B0-A6CDF83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53FE8-721D-4E02-BD1C-274026D8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E910-E504-4DA2-8095-202F4FB0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32D2E-6CD9-4251-9840-BD835599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2BBCB-3D91-4F78-9B3F-7F6D1DA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05998-D681-46B0-8E8B-B2B2D76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8EA0C-8161-48B0-B5A1-80B6E6C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03D7C-3AE1-424A-9D21-5F3C2005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434A9-0C69-472D-B6B3-F607988C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A9B28-F6CA-42F2-A721-169DBF2C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9B6-46D0-4C39-97C3-BAAE5344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B7E1-CD0B-4A3E-96D2-6B1A9E6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983F-DBD2-4524-BC44-2BDE5C2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DC7F-2A55-4A8C-A78D-D3F57B1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EA3-BFC9-40B8-A97C-99EE5977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27B1-45C4-4DD3-8CF6-9BD0BA6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FA7-940A-41C6-8AE0-FF87FF0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4AF5-A2B9-4181-A14D-AC01040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569F-660A-4269-B4A3-08CAD09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059B-69CC-446D-8505-366B718A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ECA5-F238-49B0-9645-7C85F56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84C5-31EE-40A6-B425-3BD0AE9A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A6E5-1E52-42AB-8D19-32E90BA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E840-DC1C-4CA8-A78C-A7A185E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3D2C-EAAC-4673-8A62-A9D2076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1D9-9B00-4180-A269-2AFB262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6EA7-472A-46DA-BFCD-9E708F1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D4FF-4C0D-4CF8-8C6A-A800D9A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DE70-52CD-4029-BD87-9E56AFFC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B1AB-D7B2-4799-A2F4-5B3C611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405A-BD7D-4C79-8F31-E92B5C7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66BF-ECEF-4E7A-A3CD-1FD5905C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2BB2-F2F0-4DC9-B052-065169C5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29B3-CA11-439A-A61A-3BDBDBF4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784E-5AA7-4499-BF49-C05BEA8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A915-62FB-416F-950A-A4DCF074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470-AFAB-4CAA-B898-4BB780E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005F-AB1B-4A6D-AE54-89B8FE7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4B68-9826-4AD3-A416-BA4921B3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5B66-EEC4-4A4F-AC77-61CFBCB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1567-EEC9-48A4-A0FA-5B624B2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336A-B01E-498A-B16F-6CBD332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C890-DD73-4086-9516-88E8D44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9AB1-994E-4A65-BDAE-AC6E2F3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3ADF-C279-48D3-8B09-A885964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1A71-A1FC-4CFB-A8DE-892530CB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49CC-68BD-4C3B-8354-69559F9D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B1C-BA9C-4EEE-BCEF-921CE26A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2769-06DA-4CF7-978B-6A01741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E3DA-115E-4B73-B8D6-7FC1DDF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5AE2-525D-4918-9C7A-619FFE8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A0B4-5892-4B69-8CD1-09696A75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D822-081D-4603-85E1-9B2D28F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4A6C-6353-4BF0-A9F0-C671B40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4939-80E0-4A84-814E-D5E05D1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2A2F-1B3D-4FB7-911B-A235568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66C3-E766-4906-9A0B-FE764B6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0BB1-408D-499E-AE8A-E5424E8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43B-988D-424E-A878-DA6B3AC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000C-766C-49AB-8731-8AC6899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C8F6D-EAC2-4212-9085-9F4E21E7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33FB-6BBB-4EC9-89CF-4210958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4BD1-A317-40A8-9C9E-4A20146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08FD-1D6E-4627-8B07-7863A531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146B-3C1C-428B-842E-64C3DE7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C066-CB61-455A-982B-0D3ECEF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EC09D-280C-4DE0-816C-6BA3D03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E54D-3706-41EB-ACEC-ECF1341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01D5-7F86-4C06-B606-CD8BF73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6F0-D1A5-4E31-A18B-6930B93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C80B-D3E8-4568-BD87-7E4886E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FE62-8FE4-4BCC-B6D1-BC3342F4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24B2-5485-4711-8EAA-D7CD7C57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D3C1-11B7-4453-A7BE-6873A2B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322F-C9A2-448B-8BB9-6F89F2F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2BC0-C6CB-4320-A773-9367F5E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FE683-32EA-4F2A-A785-AE11322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D8D7-09B9-46AB-85AE-4E9FD76D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F7DE-7C0A-4F19-9FF0-11FA50B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DFF0-0055-434A-9001-B2B11FA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6DC-B70C-469E-833D-829E134D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B2B2-BE4D-451E-B530-CF08F2C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5A6D-4844-4587-9BF7-493D60B4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E9BB-3935-4DAB-A8A1-1C83C6E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A36C-3107-4E0B-AEAF-BDBF6C60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74F5A-7818-408A-8CA1-111BDDE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1A63A-40E0-4295-A8FD-AFAF4533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7650-B8BC-4B83-8E07-13642E47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C2082-CB50-4352-BB87-C5D7954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612F-2AE5-4969-80AE-03B65784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D21D-CDB5-4A87-9B42-060F3B5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DB0-8D89-43EA-B683-B579DCD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C16B-F069-48EA-8C34-2A3B8E1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0161-3B85-4F3D-89B2-906329A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A787-0C54-42BF-A130-8558283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FB82-1C88-4AE2-BE45-73595B6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651EF-4053-46FF-A830-EA3456AF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EFA48-137E-412D-9E14-17768357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39E5-AAD1-4B88-B09E-E69764D6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2A401-AF26-4298-B243-0D651C99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7AE39-E9CA-4F9D-9344-325933E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F67EF-9A5B-447F-B19A-8D71E72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12C0-BB0F-461F-B731-358368B6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2A1-77C1-4694-A91E-5D08D569550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B96A-B1C2-4EDA-BC2F-DEB1E872E35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B89-42E8-4058-B1D8-CD7411B3E2C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6C11-26C4-49D7-9B65-D1658A2F610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F4D-DC62-435E-A469-E1E34F980B23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C4E-AE79-45F8-93C2-6E12D2D8538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F24-70D8-44AA-AE40-89B8049E5B3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910-3162-4AC9-B4A2-089A5BDC208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8312-733F-4AFE-9394-C8679CF9FBB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0F2-F2B9-4899-A78A-F20E1513469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9C7-5E85-4DDA-B7E6-20201589F5F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C4D-4192-4F27-B518-6EDC772B126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ТИКА И СИСТЕМ ЗДРАВСТВЕНЕ ЗАШТИТ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ставна јединица бр. 6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АЊЕ СИСТЕМА ЗДРАВСТВЕНЕ ЗАШТИ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611280" y="-648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ално посматрано, припада Бизмарковом моделу обавезног здравственог осигурања, док је суштински на прелазу између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обавезног здравстве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е здравствене служ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тз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о здравствено осигур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- без довољно аутономије у одлучивању Републичког фонда и уз значајан интервенционизам државе)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Републици Србији присутан 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овити систем финанс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система здравствене зашти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га карактер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 претежн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аван извор финансир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р се финансирање нај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м делом остварује из средстава доприноса и из буџета Републи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те у Републици Србији у основи је засновано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Бизмарковом м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 се више од 8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ава за остваривање права из обавезног здравственог осигурања обезб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е из средстава доприноса за обавезно здравствено осигур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м о здравственој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и пред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о је и 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е из буџета Републике за лица која нису обух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обавезним здравственим осигурањ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оја су изл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по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м ризику оболев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сигурана ли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глице и интерно расељена лица са територије Аутономне покрајине Косово и Метох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аоци социјалне по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 дру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је 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карактерис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вериџевог моде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асходи за здравствену з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и расходи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се поделити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ја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при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редстављају расходе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х прихода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авезно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Републи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аутономне покрајине и буџет локалне самоупра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 расходи су и инвестиције у систем здравствене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те из 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х фонд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су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х из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на плаћања корисника здравствене заштите (лично учешће осигураних лица и трошковима здравствене заштите – партиципација, плаћање пуне цене здравствених услуга које се не могу пружити на терет средстава здравственог осигурања и плаћање пуне цене здравствених услуга даваоцима из приватног сектор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ровољно здравствено осигу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приватних трошкова (95,6%) чине плаћања из ,,џепа“за здравствене услу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1020600"/>
            <a:ext cx="78868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300" spc="-1" strike="noStrike">
                <a:solidFill>
                  <a:srgbClr val="000000"/>
                </a:solidFill>
                <a:latin typeface="Calibri Light"/>
              </a:rPr>
              <a:t>Национални здравствени систем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66840" y="1755720"/>
            <a:ext cx="8548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ље има изузетно важан утицај на способност људи да живе свакодневни живот, на допринос друштвеном и економском развоју, односно општем успеху земље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 наведених разлога се здрављу приступа као великом националном ресурсу који завређује континуирани стратешки развој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ље и здравствено осигурање- једно од основних људских права загарантованих Уставом Републике Срб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ви би требало да уживају у најбољем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7000" y="1034640"/>
            <a:ext cx="78865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080" y="1717200"/>
            <a:ext cx="856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сновне демографске карактеристике Становништва Србије: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тенденција смањења броја становник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таре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наталитета: 9,3 на 1000 станов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смртности : 14,2 на 1000 становни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егативна стопа прираштаја 4,9 на 1000 становника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Удео популације старије од 65. година у Србији у укупној популацији износи 17,4% изнад просека је у Европском региону (15,3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ценат младих узраста до 14 година је 15,3%  и испод европског просека је (16,8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972720"/>
            <a:ext cx="78868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34880" y="1784160"/>
            <a:ext cx="85089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сечан животни век у Србији износи 74,6 године што је краће од просека живота у земљама ЕУ (80,2 године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Републичком заводу за статистику у Србији се очекује тренд смањења становништва до 2022. годин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бази Светске банке а према вредности националног дохотка по глави сановника Србија је 2012. године била на 100. месту од 223 земље са 11,43$ усклађених према паритету куповне моћ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класификацији Светске банке, Србија припада земљама с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вишим средњим националним дохотком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 глави становника и сврстава се у групу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емаља у развоју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овом навођењу, од бивших Југословенских република, од Србије је лошије позиционирана само Босна и Херцеговин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1080" y="1176120"/>
            <a:ext cx="78865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79000" y="1852200"/>
            <a:ext cx="83660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а здравствено стање становништва утицала су поред старења и негативна социо-економска кретања у последњих 10-20 годин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одећи узроци оболевања, инвалидности и превременог умирања ( пре 65. године) су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хроничне незаразне болести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је се у великој мери могу превенирати адекватним мерама здравствене зашти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2012. години преко 2/3 свих узрока смрти су чиниле болести срца, крвних судова и малигних тумор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53,7 % смртни исход услед болести система крвото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0,8% је преминуло од последица малигног тум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9% од компликација дијабете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6% од опструктивних болести плућ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3,2% од последица тро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985680"/>
            <a:ext cx="78868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6760" y="1746360"/>
            <a:ext cx="85201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одећи узроци обољевања и умирања становништва указују на квалитет рада здравствене службе али и на однос појединца и друштвене заједнице према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и систем према СЗО:  „скуп свих организација, институција и ресурса усмерених ка предузимању акција чија је основна сврха побољшање, очување или обнављање здравља људи.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То није само хијерархија установа које обезбеђују здравствену заштиту већ много комплекснију унију поступака.. Нпр..кампање за превенцију и контролу заразних болести, организацију здравственог осигурања, програм промене понашања са негативним утицајем на здравље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 социјалне сигурности у Србиј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ензијско-инвалидск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гурање за случај незапосле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истем друштвене бриге о де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пород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истем друштвене заштите бораца, војних инвалида и цивилних инвалида р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систем социјалне заштите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06080" y="1571400"/>
            <a:ext cx="84805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Добар здравствени систе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пружа квалитетне услуге свим људима, када и где им је потребн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ус права на здравствену заштиту варира од земље до земље али у свим случајевим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ахтева стабил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извора финансирања, есенцијални елементи здравственог система су и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о обучени и адекватно плаћени кадар, поуздане информације на основу којих ће се креирати и доносити одређена здравствена полит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декватна инфраструктура, опрема, лекови, савремена технологиј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50800" y="995040"/>
            <a:ext cx="7886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90520" y="1774800"/>
            <a:ext cx="8499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- свеобухватна и организована делатност друштва са основним циљем да се оствари највиши могући ниво очувања здравља људи и грађан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Мере и активносту здравствене заштите морају бити квалитетне, безбедне, ефикасне, ефективне, засноване на научним доказима и у складу са начелима професионалне ети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а сонову поделе система здравствене заштите (ЗЗ) који је креирала 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OECD ( Organisation forEconomic Cooperation and Development)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- Организација за економску сарадњу и развој, систем ЗЗ у Србији припада Бизмарковом моделу – обавезно здравствено осигурање ( допринос је основни извор финансирања), велики обухват  становништва здравственом заштитом и доминантно државно власништво над инфраструктур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944280"/>
            <a:ext cx="7886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79000" y="1649160"/>
            <a:ext cx="86360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иватни здравствени сектор- код нас још увек неадекватно развијен. Стихијски се развијао без адекватне контроле или подршке држав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Капацитети здравственог систем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купан број самосталних здравствених установа према Уредби о плану мреже здравствених установа у 2012. години у Србији је износио 3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државном сектору у 2012. години било је запослено укупно 112587 радника; доктора медицине 18,6%; доктора стоматологије 1,9%; дипломираних фармацеута 1,9%, медицинских техничара 35,3% и немедицинских радника 24,5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адровска обезбеђеност, број лекара и медицинских техничара на 100000 становника , приближио се просечним вредностима за земље Европског региона (334 лекара и 766 техничара на 100000 становн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0920" y="1082520"/>
            <a:ext cx="78865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75760" y="1752120"/>
            <a:ext cx="867276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а обезбеђеност становништва лекарским кадром нарушена је неповољном дистрибуцијом, тј високом концентрацијом кадра у урбаној средини а дефицитом кадар у руралним подручјим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 превазилажење овог проблема неопходан је одговарајући план са вишеслојним и комплексним мерама и активност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90400" y="963360"/>
            <a:ext cx="7886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47400" y="1726920"/>
            <a:ext cx="8577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Финансирање здравствене заштит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ко 90% средстава за оставривање права из обавезног здравственог осигурања се обезбеђујеиз средстава допирноса за обавез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коном о ЗЗ је предвиђено и финансирање из буџета Републике Србије за лица која нису обухваћена обавезним здравственим осигурањем а која су изложена повећаном ризику обољевања (неосигурана лица, избеглице, примаоци социјалне помоћ и друг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рбија има мешовити модел финансирања кога карактерише искључиво јав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1760" y="1852560"/>
            <a:ext cx="86742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авезни здравственим осигурањем осигураним лицима обезбеђује се право на здравствену заштиту и право на новчане надокнаде у складу са Законом о здравственом осигурањ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ствено осигурање грађани остварују посредством Републичког фонда за здравствено осигурање (РФЗО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обавезног Закон уређује и добровољ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 у Републици Србији, финансира се и средствима из донације као и директним плаћањем од стране корисника здравствене заштите (партиципације и плаћање пуне цене услуга које се не обезбеђују из средстава обавезног здравственог осигур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98244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70000" y="1697040"/>
            <a:ext cx="866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чување и унапређење здравља становништва и одрживост система здравствене заштите је основни циљ здравствене политике, чији је носилац Министарство здрав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и систем мора осигура вертикалну повезаност ( примарног, секундарног и терцијарног нивоа) и хоризонталну повезаност у систему и у односу на локалну заједницу, да ради на сталном унапређењу квалитета здравствене заштите, развоју здравствених кадрова, информатичке подршке, одрживости финансирања, партнерству приватног и јавног сектора,постаљање корисника у центар система здравствене зашт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стема здравствене зашти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 1987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ни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и здравствене заштите углавном међусобно се разликују према начину прикупљања средстава за здравствену заштиту и остваривању осталих права из здравственог осигурања, односно према изворима финанси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) потпун обухват становништва здравственом заштитом и здравственим осигурањ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финансирање из буџета, односно путем поре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) претежно државно власништво или само контрола над зградама и опремом у здрав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жбе прва увела је Велика Британија, у јулу 1948. г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јам Бевериџ,  је у свом извештају из 1942. године образложио основе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итанска национална здравствена служб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tional Health Sevice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 Велике Британије и Ирске, као пример могу се навести: Шведска, Норвешка, Финска, Данска, Исланд, Канада, Аустралија, Италија, Шпанија, Португалија   и друге зем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становништва обухваћеног обавезним здравственим осигурањем (преко 9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нансирање путем доприноса запослених и њихових послодавац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жавно и/или приватно власништво над зградама и опремом у здрав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примери земаља са социјалним осигурањем могу се навести: Немачка, Аустрија, Француска, Швајцарска, Белгија, Холандија, Луксембург и друге земље. Такође, земље у транзицији претежно се опредељују за систем социјалног осигу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 приватно власништво над зградама и опремом у здравст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ватно здравствен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неосигураног становниш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ан представник земаља са системом приватног осигурања су САД. У овој земљи, у којој расходи за здравствену заштиту чине око 18% бруто доомаћег производа, здравствено је неосигурано око 48 милиона становника или 15,4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машков мо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ан Бевериџовом моделу, али  искључује приватну прак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 модел био је примењиван у Совјетском Савезу и другим источноевропским земљама, међутим у Европи више не постој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машков модел данас је присутан у Азији (Кина, Северна Кореја, Монголија, Вијетнам) и на Ку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8:49:03Z</dcterms:created>
  <dc:creator>No name</dc:creator>
  <dc:description/>
  <dc:language>en-US</dc:language>
  <cp:lastModifiedBy>User</cp:lastModifiedBy>
  <dcterms:modified xsi:type="dcterms:W3CDTF">2019-02-18T18:54:53Z</dcterms:modified>
  <cp:revision>21</cp:revision>
  <dc:subject/>
  <dc:title>ФИНАНСИРАЊЕ СИСТЕМА ЗДРАВСТВЕНЕ ЗАШТИТЕ У РЕПУБЛИЦИ СРБИЈИ</dc:title>
</cp:coreProperties>
</file>